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AC8-C800-4531-AE7F-5AEE4F19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0CA-FED0-4A17-9253-C192291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7F6-34A3-4A1E-B361-9BD84041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683-5E78-4D4E-BCF1-F1AE6240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B1B7-0DDF-4B63-926E-3C7C875B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FE90-0A49-4387-A3FE-D3C5C079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0F0F-672E-49B5-9808-47DCDD0B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B695-9626-48DD-9797-05A62FE0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1208-AD24-460D-BD57-ADE60E61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331A-623C-4CEF-A545-5AD38E15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50AA-096A-4490-B592-57310865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E09-8E56-466D-90EE-6C3A4BB5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E3EC-41C4-4111-B5C0-0BC0DC9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B939-0F0A-4DC6-A0A7-6D74CEF0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8D3F-B08E-4C8B-9302-96210E3F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285B-9A8D-4978-88CC-02E2F696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B96C-9892-40D5-88AD-03541E5C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6486-7274-4015-A62C-AB19C854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6660-A6D5-4229-AD38-FC59C066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E327-43CB-4E7F-B416-016D26E9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960B-1289-4543-A539-FDBB6BF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3B8B-1F38-4742-89A8-1F2B9FB8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207-5398-45B4-8C0D-DCA23077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9417-0778-4122-9A53-8BE0213D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52C3-44C3-4CD6-AAC0-1BEF6BF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CD10-1D7D-4A86-A65C-11CEC4F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5116-50D4-43B4-9BE4-5A4A952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3C6B-7A30-414B-8BEE-CE9E5485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FD7F-022F-4FFD-B6C4-A5A09BCA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9DB6A-3BC2-4F35-BC9A-5CD4A835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70E-D2C2-4211-8585-94BA2EEF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523-71BE-4D97-806F-A9B0BEBC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500-EE78-4B45-AE90-80C48681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A5E-13BF-4290-B165-C0155447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A04-5DBA-48AC-B368-E7C5E62E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C05-5E15-4CAB-8F0A-AE0B73C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2F04-4AF0-49C8-A344-34AA8E8FB3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9C33-C4A4-4842-AE13-AEFAA0CFAD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23AA-5937-4BE9-A70E-D1F202FD7D4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50104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Приготовление препарата   кожицы чешуи лу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395280" y="476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5FA2-7179-48A8-9A96-87C05A23BB25}" type="datetime">
              <a:rPr b="1" lang="ru-RU" sz="1800" spc="-1" strike="noStrike">
                <a:solidFill>
                  <a:srgbClr val="00b050"/>
                </a:solidFill>
                <a:latin typeface="Arial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:\МОИ ДОКУМЕНТЫ-2\картинки биология\общая биология\цитология\микроскоп и приготовление препаратов\этапы приготовления препарата.jp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1596960" y="-12600"/>
            <a:ext cx="5950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052720" y="1919160"/>
            <a:ext cx="5113080" cy="40402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2195640" y="3645000"/>
            <a:ext cx="1224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1476360" y="4005000"/>
            <a:ext cx="93492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250920" y="4724280"/>
            <a:ext cx="122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324000" y="4365720"/>
            <a:ext cx="113796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5219280" y="3789360"/>
            <a:ext cx="20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H="1">
            <a:off x="4788000" y="3789360"/>
            <a:ext cx="2520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5724360" y="3789360"/>
            <a:ext cx="1656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2"/>
          <p:cNvSpPr txBox="1"/>
          <p:nvPr/>
        </p:nvSpPr>
        <p:spPr>
          <a:xfrm>
            <a:off x="7524720" y="342900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92360" y="1052640"/>
            <a:ext cx="4608720" cy="4681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64000" y="2205000"/>
            <a:ext cx="180000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3564000" y="2205000"/>
            <a:ext cx="1152360" cy="216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971640" y="2205000"/>
            <a:ext cx="25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8"/>
          <p:cNvSpPr txBox="1"/>
          <p:nvPr/>
        </p:nvSpPr>
        <p:spPr>
          <a:xfrm>
            <a:off x="900000" y="1773360"/>
            <a:ext cx="19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куо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5:09:28Z</dcterms:created>
  <dc:creator>user</dc:creator>
  <dc:description/>
  <dc:language>en-US</dc:language>
  <cp:lastModifiedBy>Алла Матросова</cp:lastModifiedBy>
  <dcterms:modified xsi:type="dcterms:W3CDTF">2020-10-01T19:23:57Z</dcterms:modified>
  <cp:revision>100</cp:revision>
  <dc:subject/>
  <dc:title>Особенности ЕГЭ по биологии 2012 год</dc:title>
</cp:coreProperties>
</file>